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1A68-F757-4AB7-89C9-4D1C7CA2F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18AA-6DA8-423D-9E55-4EA4C481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1FFA-0340-4492-9ADA-30821C8AB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A199-6D1A-49B7-805D-FE989F1E4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21E3-F146-486A-BEEF-5EF079B5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A058-7C85-40E7-A9C5-3EE1ABAA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E228-939C-4C89-9986-B90A91F6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1201-9A66-4426-B016-2618FB4B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2E61-B2D8-4F0A-AB90-B569DACF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00AA-DA47-40FB-A215-6E856358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FA76-EE63-4013-B926-F9DCE7CB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A294-282D-4879-AF91-611486F5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34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8076-EF07-497A-9468-FF1BCD4A4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34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C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ENTRIFUGAÇÃO E 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L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ISE/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P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RECIPITAÇÃO DO 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DNA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 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P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LASMÍDICO E 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R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EMOÇÃO DO 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A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34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C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ENTRIFUGAÇÃO E 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L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ISE/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P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RECIPITAÇÃO DO 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DNA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 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P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LASMÍDICO E 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R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EMOÇÃO DO 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A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933480"/>
          <a:ext cx="9144000" cy="592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33480"/>
                    <a:ext cx="9144000" cy="59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34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332000" y="479700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b9c"/>
                </a:solidFill>
                <a:latin typeface="CenturyOldStyle"/>
              </a:rPr>
              <a:t>Trabalho 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b9c"/>
                </a:solidFill>
                <a:latin typeface="CenturyOldStyle"/>
              </a:rPr>
              <a:t>Celia Carneiro nº 146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b9c"/>
                </a:solidFill>
                <a:latin typeface="CenturyOldStyle"/>
              </a:rPr>
              <a:t>Inês Ladeiro nº 174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b9c"/>
                </a:solidFill>
                <a:latin typeface="CenturyOldStyle"/>
              </a:rPr>
              <a:t>Núria Costa nº 117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715000" cy="895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484360" y="2852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b9c"/>
                </a:solidFill>
                <a:latin typeface="CenturyOldStyle"/>
              </a:rPr>
              <a:t>Biologia Molecular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34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C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ENTRIFUGAÇÃO E 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L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ISE/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P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RECIPITAÇÃO DO 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DNA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 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P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LASMÍDICO E 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R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EMOÇÃO DO 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A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749160"/>
          <a:ext cx="9144000" cy="610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49160"/>
                    <a:ext cx="9144000" cy="610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34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C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ENTRIFUGAÇÃO E 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L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ISE/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P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RECIPITAÇÃO DO 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DNA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 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P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LASMÍDICO E 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R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EMOÇÃO DO 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A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0" y="860400"/>
          <a:ext cx="9144000" cy="599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60400"/>
                    <a:ext cx="9144000" cy="59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34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C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ENTRIFUGAÇÃO E 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L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ISE/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P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RECIPITAÇÃO DO 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DNA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 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P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LASMÍDICO E 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R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EMOÇÃO DO 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A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0" y="569880"/>
          <a:ext cx="9144000" cy="628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69880"/>
                    <a:ext cx="9144000" cy="62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34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C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ENTRIFUGAÇÃO E 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L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ISE/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P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RECIPITAÇÃO DO 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DNA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 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P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LASMÍDICO E 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R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EMOÇÃO DO 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A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569880"/>
          <a:ext cx="9144000" cy="628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69880"/>
                    <a:ext cx="9144000" cy="62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34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C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ENTRIFUGAÇÃO E 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L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ISE/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P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RECIPITAÇÃO DO 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DNA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 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P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LASMÍDICO E 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R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EMOÇÃO DO 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A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569880"/>
          <a:ext cx="9144000" cy="628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69880"/>
                    <a:ext cx="9144000" cy="62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34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C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ENTRIFUGAÇÃO E 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L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ISE/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P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RECIPITAÇÃO DO 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DNA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 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P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LASMÍDICO E 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R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EMOÇÃO DO 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A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569880"/>
          <a:ext cx="9144000" cy="628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69880"/>
                    <a:ext cx="9144000" cy="62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34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C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ENTRIFUGAÇÃO E 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L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ISE/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P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RECIPITAÇÃO DO 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DNA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 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P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LASMÍDICO E 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R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EMOÇÃO DO 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A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0" y="712800"/>
          <a:ext cx="9144000" cy="614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12800"/>
                    <a:ext cx="9144000" cy="61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34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C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ENTRIFUGAÇÃO E 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L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ISE/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P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RECIPITAÇÃO DO 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DNA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 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P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LASMÍDICO E 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R</a:t>
            </a:r>
            <a:r>
              <a:rPr b="1" lang="pt-PT" sz="1700" spc="-1" strike="noStrike">
                <a:solidFill>
                  <a:srgbClr val="fffb9c"/>
                </a:solidFill>
                <a:latin typeface="CenturyOldStyle"/>
              </a:rPr>
              <a:t>EMOÇÃO DO </a:t>
            </a:r>
            <a:r>
              <a:rPr b="1" lang="pt-PT" sz="2000" spc="-1" strike="noStrike">
                <a:solidFill>
                  <a:srgbClr val="fffb9c"/>
                </a:solidFill>
                <a:latin typeface="CenturyOldStyle"/>
              </a:rPr>
              <a:t>A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0" y="861840"/>
          <a:ext cx="9144000" cy="599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61840"/>
                    <a:ext cx="9144000" cy="59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20:22:43Z</dcterms:created>
  <dc:creator>ana-ines</dc:creator>
  <dc:description/>
  <dc:language>en-US</dc:language>
  <cp:lastModifiedBy>ana-ines</cp:lastModifiedBy>
  <dcterms:modified xsi:type="dcterms:W3CDTF">2006-03-23T21:39:34Z</dcterms:modified>
  <cp:revision>4</cp:revision>
  <dc:subject/>
  <dc:title>Diapositivo 1</dc:title>
</cp:coreProperties>
</file>